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1F0-BDE7-47E5-8381-BA8EF3EA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CDD-44B3-4CB6-8E07-0741FC8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167-AD5D-4762-A0B4-C3800D43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936-6D32-44C9-8325-2175222C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EECD1-D3C5-4B92-AE27-DD8F41F4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C3135-1119-42E9-8F04-AA7E7EBD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0C92F-B8E2-45F6-A2DF-89FCE12F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673B5-6EE7-43F8-87ED-6AFCC560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0A360-92DB-49C1-8304-9E2E3707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BCCB7-FD5C-4D9C-9E3D-6B790D04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1F2D3-7037-47CD-8313-E7D2FBDD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C83-5CD3-4198-AA0E-186E0C58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90D24-4CEE-4A5C-AC22-EB15AA9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CBD9E-8733-4A8B-AD4D-840755B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B5622-6837-4811-83D9-EF201900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C7BEC-BBB2-460B-9630-34453184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A5332-D093-4A7C-BDE0-81A780AD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866-7546-41D1-921D-6ED22A32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2F4-B28B-495F-829D-64038CCF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F9E-7551-4A20-B515-5DECAA88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360-302A-479F-8B6C-75AFD5C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1A3-EC48-491B-9660-766CA84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696-EDEE-47DA-BAC0-39236B7E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C71-9FC6-4F17-BC18-97F9E6A3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8BCE-0FFA-4068-AA70-F73C3B5E9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9F64-6A07-478E-AF25-98B60A8E5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-9036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Атмосфера Земли.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Источники загрязнения и последствия её загрязн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ahoma"/>
              </a:rPr>
              <a:t>Выполнил: ученик 4 «А» класса МОУ-СОШ № 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ahoma"/>
              </a:rPr>
              <a:t>Недоступ Евген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ahoma"/>
              </a:rPr>
              <a:t>Руководитель: Свиридович Галина Ивановн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3352680"/>
            <a:ext cx="4724280" cy="35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754520" y="0"/>
            <a:ext cx="43894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178560" y="990720"/>
            <a:ext cx="438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втомобиль - не роскошь, а сред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едвижения. Это известно вс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 то, что машины из благ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цивилизации может превращать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ее бич, человечество ста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нимать сравнительно недав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52280"/>
            <a:ext cx="1768680" cy="459720"/>
          </a:xfrm>
          <a:prstGeom prst="rect">
            <a:avLst/>
          </a:prstGeom>
          <a:solidFill>
            <a:srgbClr val="33cc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ранспо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4760" y="4267080"/>
            <a:ext cx="396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хлопные газы двига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нутреннего сгорания содерж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громное количество токсич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единений, сажи и осо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пасных соединений свин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724280" y="0"/>
            <a:ext cx="4419720" cy="35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>
            <a:lum contrast="6000"/>
          </a:blip>
          <a:srcRect l="0" t="10233" r="736" b="11360"/>
          <a:stretch/>
        </p:blipFill>
        <p:spPr>
          <a:xfrm>
            <a:off x="0" y="3505320"/>
            <a:ext cx="472752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-136800" y="1295640"/>
            <a:ext cx="484704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ибольшее загрязнение атмосфер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здуха происходит вследст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бросов в атмосферу вредных вещ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 работе энергетических установ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ботающих на разном топлив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мазут, дизельное топливо, уголь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3120" y="228600"/>
            <a:ext cx="2756160" cy="459720"/>
          </a:xfrm>
          <a:prstGeom prst="rect">
            <a:avLst/>
          </a:prstGeom>
          <a:solidFill>
            <a:srgbClr val="33cc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плоэнерг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08240" y="4572000"/>
            <a:ext cx="41569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щным и чрезвычайно опас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актором загрязнения атмосф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являются катастрофы на АЭ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Чернобыльская авар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0"/>
            <a:ext cx="4572000" cy="340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>
            <a:lum contrast="6000"/>
          </a:blip>
          <a:srcRect l="0" t="0" r="70" b="1965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3272040" y="228600"/>
            <a:ext cx="3160080" cy="459720"/>
          </a:xfrm>
          <a:prstGeom prst="rect">
            <a:avLst/>
          </a:prstGeom>
          <a:solidFill>
            <a:srgbClr val="33cc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120" y="1066680"/>
            <a:ext cx="43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воз, хранящийся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ивотноводческих комплек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деляет аммиак являющий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щным загрязнителем атмосферы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8600" y="4038480"/>
            <a:ext cx="433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грязнение атмосферы происход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применении ядохимика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обработка почвы дисков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рудиями в атмосферу попа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льшое количество пы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990720"/>
            <a:ext cx="2895480" cy="2342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>
            <a:lum contrast="6000"/>
          </a:blip>
          <a:srcRect l="-227" t="0" r="0" b="3571"/>
          <a:stretch/>
        </p:blipFill>
        <p:spPr>
          <a:xfrm>
            <a:off x="3124080" y="9907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324480" y="990720"/>
            <a:ext cx="2819520" cy="2395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82040" y="380160"/>
            <a:ext cx="67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БЛЕМЫ, ВЫЗВАННЫЕ ЗАГРЯЗНЕНИЕМ АТМОСФЕ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231720"/>
            <a:ext cx="2590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тмосфера, подоб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еклу в оранжере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пускает лучист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нергию Солнца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верхности Земли, 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глекислый газ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ускает в космо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пло от нагрет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верхности Земли, создавая “пар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ффект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1440" y="3582000"/>
            <a:ext cx="271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тощение озонов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оя в атмосф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емли приводит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величению пото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льтрафиолетов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учей на земн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верхность,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ет опас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всего жив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нашей плане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0" y="3733920"/>
            <a:ext cx="315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ислотные выпад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водят  к гибели ле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начительно сниж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рожайность некотор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/х культур. От кислот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адков страд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зерные водое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Качество атмосферного воздуха - важнейший факт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влияющий на здоровье людей, существование живот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и растений на Зем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Эта проблема решается на международном уровне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ш вклад в защиту атмосферы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кономное потребление электроэнер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адка деревьев и кустарник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щита уже растущих деревьев и кустар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состав атмосфе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 об источниках её загряз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влияние человека на атмосф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ить практическую деятельность по охране атмосфе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sp>
          <p:nvSpPr>
            <p:cNvPr id="89" name=""/>
            <p:cNvSpPr txBox="1"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35040" y="3105720"/>
              <a:ext cx="1936800" cy="351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Атмосфер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35040" y="3808800"/>
              <a:ext cx="1936800" cy="35136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Смесь газов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67680" y="4513320"/>
              <a:ext cx="1937880" cy="3524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Азот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35040" y="4513320"/>
              <a:ext cx="1936800" cy="35136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Кислоро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00960" y="4513320"/>
              <a:ext cx="1937880" cy="3524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Другие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газ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00960" y="5685480"/>
              <a:ext cx="1939320" cy="350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Углекислый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га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71840" y="5099040"/>
              <a:ext cx="1182240" cy="35136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Арго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84640" y="5099040"/>
              <a:ext cx="1184760" cy="3524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Озо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02720" y="3457440"/>
              <a:ext cx="108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02720" y="41605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28800" y="4160520"/>
              <a:ext cx="247392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02720" y="4160520"/>
              <a:ext cx="236736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70080" y="4864680"/>
              <a:ext cx="0" cy="82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808960" y="4864680"/>
              <a:ext cx="861120" cy="23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70080" y="4864680"/>
              <a:ext cx="859680" cy="23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277200"/>
            <a:ext cx="929628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Атмосфера – это газовая оболочка Земл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Атмосферный воздух является самой важной жизнеобеспечивающей природ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редой и представляет собой смесь газов приземного слоя атмосфер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овременный газовый состав атмосферы - результат длительного историческ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развития  земного  шара.  Он  представляет  собой  в  основном газовую смес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вух компонентов – азота и кислорода, а так же  другие газы и  твердые  частиц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оступающие  с  поверхности  Земли (например, продукты горения, вулкан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еятельности,  частицы  почвы)  и из космоса (космическая пыль), а  такж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различные   продукты  растительного, животного или микробного происхожд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ЛАССИФИКАЦИЯ ИСТОЧНИКОВ ЗАГРЯЗН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14240" y="1672200"/>
            <a:ext cx="3810240" cy="4593960"/>
            <a:chOff x="2514240" y="1672200"/>
            <a:chExt cx="3810240" cy="4593960"/>
          </a:xfrm>
        </p:grpSpPr>
        <p:sp>
          <p:nvSpPr>
            <p:cNvPr id="108" name=""/>
            <p:cNvSpPr/>
            <p:nvPr/>
          </p:nvSpPr>
          <p:spPr>
            <a:xfrm>
              <a:off x="3504960" y="1672200"/>
              <a:ext cx="1905480" cy="59256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Источники загрязн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атмосфер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240" y="2560680"/>
              <a:ext cx="1446480" cy="44424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Естествен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2560680"/>
              <a:ext cx="1446480" cy="44424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Искусствен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4240" y="3153600"/>
              <a:ext cx="1447560" cy="44316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Вулкан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240" y="3746520"/>
              <a:ext cx="1447560" cy="44532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Лесные пожар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240" y="4339080"/>
              <a:ext cx="1447560" cy="44316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ыльные бур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240" y="4932000"/>
              <a:ext cx="1447560" cy="44532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Выветрива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240" y="5524920"/>
              <a:ext cx="1447560" cy="58896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Разложение живы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организм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3153600"/>
              <a:ext cx="1446480" cy="59256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ромышленны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е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редприят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3895200"/>
              <a:ext cx="1446480" cy="44280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Теплоэнерге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4486680"/>
              <a:ext cx="1446480" cy="44532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Транспор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6920" y="5079240"/>
              <a:ext cx="1446480" cy="44676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Отопление жили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5672160"/>
              <a:ext cx="1447560" cy="59400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Сельское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хозяй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047760" y="2265120"/>
              <a:ext cx="137088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000" y="2265120"/>
              <a:ext cx="129528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1800" y="2857680"/>
              <a:ext cx="228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90400" y="2857680"/>
              <a:ext cx="0" cy="29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961800" y="5820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961800" y="5227560"/>
              <a:ext cx="228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961800" y="463536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61800" y="40424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961800" y="3449520"/>
              <a:ext cx="228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7240" y="285768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47600" y="2857680"/>
              <a:ext cx="0" cy="29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7600" y="582084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47600" y="522792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7600" y="463536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47600" y="404244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47600" y="344952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-15840"/>
            <a:ext cx="89344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агрязнение атмосферы – это попадание загрязняющих веществ из различных источников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267080" y="3581280"/>
            <a:ext cx="4876920" cy="32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4137120" y="449280"/>
            <a:ext cx="127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31840" y="152280"/>
            <a:ext cx="587736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Вулканы - как источники загряз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514600"/>
            <a:ext cx="2438640" cy="916920"/>
          </a:xfrm>
          <a:prstGeom prst="rect">
            <a:avLst/>
          </a:prstGeom>
          <a:solidFill>
            <a:srgbClr val="0033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брос пепла при извержении вулк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3962520"/>
            <a:ext cx="2133720" cy="642600"/>
          </a:xfrm>
          <a:prstGeom prst="rect">
            <a:avLst/>
          </a:prstGeom>
          <a:solidFill>
            <a:srgbClr val="0033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вержение ла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762120"/>
            <a:ext cx="2057400" cy="368280"/>
          </a:xfrm>
          <a:prstGeom prst="rect">
            <a:avLst/>
          </a:prstGeom>
          <a:solidFill>
            <a:srgbClr val="0033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ящий вул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95440" y="1371240"/>
            <a:ext cx="33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ущественно загрязн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тмосферу крупные лес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жа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3441600"/>
            <a:ext cx="4724280" cy="341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>
            <a:lum contrast="12000"/>
          </a:blip>
          <a:srcRect l="0" t="0" r="4327" b="0"/>
          <a:stretch/>
        </p:blipFill>
        <p:spPr>
          <a:xfrm>
            <a:off x="4724280" y="0"/>
            <a:ext cx="4419720" cy="344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5331240" y="449532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ым от лесных пожа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спространяется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громные площад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228600"/>
            <a:ext cx="25146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Лесные пожа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contrast="24000"/>
          </a:blip>
          <a:srcRect l="0" t="0" r="0" b="6454"/>
          <a:stretch/>
        </p:blipFill>
        <p:spPr>
          <a:xfrm>
            <a:off x="4419720" y="0"/>
            <a:ext cx="47242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4419720" cy="35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75240" y="609480"/>
            <a:ext cx="431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Пыльная (песчаная) бур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 больших количеств пы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частиц почвы, песчин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тром с земной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заметным ухудшением видим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94000" y="4038480"/>
            <a:ext cx="355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ыльные бури могу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ить огром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ъёмы пыли, так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ронт бури может выгляд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плотная стена пы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1067040"/>
            <a:ext cx="434340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дприятия цветной и чёрной металлургии при извлечении металлов вынуждены использо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уду с очень низким содержанием «полезных» компон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729320" y="3946680"/>
            <a:ext cx="441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бросы предприятий химической промышленности, хотя и невелики по объему, тем не менее, ввиду своей весьма высокой токсичности, значительного разнообразия и концентрированности, представляют значительную угрозу для человека и всего жив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228600"/>
            <a:ext cx="3962520" cy="703800"/>
          </a:xfrm>
          <a:prstGeom prst="rect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Промышленное произ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108040" y="2286000"/>
            <a:ext cx="3129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фтегазодобываю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мышленность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08640" y="0"/>
            <a:ext cx="463536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3441600"/>
            <a:ext cx="4495680" cy="341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4175280" y="260280"/>
            <a:ext cx="214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10800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61000" y="228600"/>
            <a:ext cx="5345640" cy="368280"/>
          </a:xfrm>
          <a:prstGeom prst="rect">
            <a:avLst/>
          </a:prstGeom>
          <a:solidFill>
            <a:srgbClr val="0101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фтегазодобывающая промышленност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80" y="841320"/>
            <a:ext cx="44355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клад отрасли в промышлен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грязнение атмосферы незначителен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о он характеризуется самым низки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центом улова вредных вещест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ающих в атмосферу. Значитель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масса загрязнений поступает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тмосферу при сжигании нефтяного газ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 факелах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1720" y="4193280"/>
            <a:ext cx="419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агрязнение приземного сло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тмосферы  при добыче неф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и газа происходит также во врем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варий, в основном природ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азом, продуктами испарения нефти, 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акже продуктами сгор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0-11-18T18:26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